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723-F967-49EC-8563-20AC7B82478D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AD3-288D-4DB6-9CED-28647EB4C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48B-E23B-4C22-A0A1-EAF4A462C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AB2-C50F-44D4-8808-C52BE90434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8CC-3283-46D8-9763-5BED81C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86E-BE67-48C4-810E-98F2897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129-1DFC-4510-8261-295A086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B97-D4C5-4C63-85BA-AD0DFDF3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A57-F372-4B0E-AFAC-97D6610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98B-9B0F-48E8-AF47-37369BA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884-BF83-4FAD-B037-92A4F08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4F9-CF20-494E-BAB5-1C09F6E5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F37-AD19-4732-B82A-0FE1A597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FA6-2A2F-41CC-BA7C-A424E74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B0E-FF00-47D0-AEAD-CF9A23A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CCB-2E44-4397-AA99-A3C734E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2C87-6AAC-46CF-9044-5F6BE1F7511F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宋体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muric91@gmail.com</cp:lastModifiedBy>
  <dcterms:modified xsi:type="dcterms:W3CDTF">2020-10-01T11:03:03Z</dcterms:modified>
  <cp:revision>84</cp:revision>
  <dc:subject/>
  <dc:title>OSNOVI PSIHOPATOLOGIJE</dc:title>
</cp:coreProperties>
</file>